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41EC-05F6-4DEC-9C7E-14A2D140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F752-E9F5-404F-982C-C8E3E13A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2FA3-04EE-4FF9-8C67-240AFBD1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E70B-8DF7-4B9F-8DB0-99D35676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5A21-45FE-4C1D-809A-03382A77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37D4-E9D4-4185-812E-7C1B3593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4EF8-AEAA-41B6-93C6-C871363F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90D7-361F-40D8-823D-801B0454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8669-6627-4041-8191-DBF9DC90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C03C-5BB1-4FD3-BAF7-B017C08E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CC79-E512-460A-8313-03918867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57AC-ED9B-4B19-B060-484EF93D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ADF5-69B0-43B8-B205-A205BF58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D5E4-D600-4C33-9542-1FA4AAFA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0E9E-F3BF-4C74-9BA3-F4556E80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4FB5-BEB3-4C94-BAFD-E68E0D3B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524D-C5E0-4BF8-8881-56FF9BB3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5F17-5CD2-415D-A086-B5603CC3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2BEC-83BE-49BA-8BBB-2BE41F18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FE7A-5617-4E18-B8AF-C9AB84DE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E592-6B56-4C8B-8BAE-C49DB572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F813-E016-49FC-96AC-88F77048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6A62-A672-4610-BCC5-8ACD464F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C35A-1201-45CE-92CF-4DC0C113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2E3F-6BD4-48DD-A322-2DC408D31DF2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434F-2370-4609-A166-7A0FBCFCED05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"/>
              </a:rPr>
              <a:t>هل تفضل أن تكون قائداً مميزاً؟؟؟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إذاً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أحرص على الاستفادة معنا .....اليوم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52200" y="171360"/>
            <a:ext cx="8965800" cy="6510240"/>
            <a:chOff x="52200" y="171360"/>
            <a:chExt cx="8965800" cy="6510240"/>
          </a:xfrm>
        </p:grpSpPr>
        <p:sp>
          <p:nvSpPr>
            <p:cNvPr id="599" name="_s12345"/>
            <p:cNvSpPr/>
            <p:nvPr/>
          </p:nvSpPr>
          <p:spPr>
            <a:xfrm flipH="1" flipV="1">
              <a:off x="2888640" y="1850040"/>
              <a:ext cx="1101960" cy="104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12344"/>
            <p:cNvSpPr/>
            <p:nvPr/>
          </p:nvSpPr>
          <p:spPr>
            <a:xfrm>
              <a:off x="1407600" y="66888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ono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12343"/>
            <p:cNvSpPr/>
            <p:nvPr/>
          </p:nvSpPr>
          <p:spPr>
            <a:xfrm flipH="1" flipV="1">
              <a:off x="1874520" y="28263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_s12342"/>
            <p:cNvSpPr/>
            <p:nvPr/>
          </p:nvSpPr>
          <p:spPr>
            <a:xfrm>
              <a:off x="52200" y="19692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Communicate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With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_s12341"/>
            <p:cNvSpPr/>
            <p:nvPr/>
          </p:nvSpPr>
          <p:spPr>
            <a:xfrm flipH="1">
              <a:off x="1877760" y="3626280"/>
              <a:ext cx="177156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_s12340"/>
            <p:cNvSpPr/>
            <p:nvPr/>
          </p:nvSpPr>
          <p:spPr>
            <a:xfrm>
              <a:off x="52200" y="357876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iquenes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12339"/>
            <p:cNvSpPr/>
            <p:nvPr/>
          </p:nvSpPr>
          <p:spPr>
            <a:xfrm flipH="1">
              <a:off x="2894760" y="395244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_s12338"/>
            <p:cNvSpPr/>
            <p:nvPr/>
          </p:nvSpPr>
          <p:spPr>
            <a:xfrm>
              <a:off x="1407600" y="488124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Open his ey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12337"/>
            <p:cNvSpPr/>
            <p:nvPr/>
          </p:nvSpPr>
          <p:spPr>
            <a:xfrm>
              <a:off x="4533480" y="4076640"/>
              <a:ext cx="6840" cy="129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_s12336"/>
            <p:cNvSpPr/>
            <p:nvPr/>
          </p:nvSpPr>
          <p:spPr>
            <a:xfrm>
              <a:off x="3601800" y="53766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Trust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biliti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12335"/>
            <p:cNvSpPr/>
            <p:nvPr/>
          </p:nvSpPr>
          <p:spPr>
            <a:xfrm>
              <a:off x="5079960" y="3952440"/>
              <a:ext cx="1101960" cy="105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_s12334"/>
            <p:cNvSpPr/>
            <p:nvPr/>
          </p:nvSpPr>
          <p:spPr>
            <a:xfrm>
              <a:off x="5792760" y="487908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Never und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12333"/>
            <p:cNvSpPr/>
            <p:nvPr/>
          </p:nvSpPr>
          <p:spPr>
            <a:xfrm>
              <a:off x="5421240" y="36291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_s12332"/>
            <p:cNvSpPr/>
            <p:nvPr/>
          </p:nvSpPr>
          <p:spPr>
            <a:xfrm>
              <a:off x="7148160" y="357876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ppreci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effort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12331"/>
            <p:cNvSpPr/>
            <p:nvPr/>
          </p:nvSpPr>
          <p:spPr>
            <a:xfrm flipV="1">
              <a:off x="5421240" y="2821320"/>
              <a:ext cx="1770480" cy="40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12330"/>
            <p:cNvSpPr/>
            <p:nvPr/>
          </p:nvSpPr>
          <p:spPr>
            <a:xfrm>
              <a:off x="7148160" y="196920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Motiv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desi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_s12329"/>
            <p:cNvSpPr/>
            <p:nvPr/>
          </p:nvSpPr>
          <p:spPr>
            <a:xfrm flipV="1">
              <a:off x="5083200" y="184716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12328"/>
            <p:cNvSpPr/>
            <p:nvPr/>
          </p:nvSpPr>
          <p:spPr>
            <a:xfrm>
              <a:off x="5792760" y="66672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s feeling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12327"/>
            <p:cNvSpPr/>
            <p:nvPr/>
          </p:nvSpPr>
          <p:spPr>
            <a:xfrm flipV="1">
              <a:off x="4533480" y="1475640"/>
              <a:ext cx="0" cy="129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12326"/>
            <p:cNvSpPr/>
            <p:nvPr/>
          </p:nvSpPr>
          <p:spPr>
            <a:xfrm>
              <a:off x="3598560" y="17136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ea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_s12325"/>
            <p:cNvSpPr/>
            <p:nvPr/>
          </p:nvSpPr>
          <p:spPr>
            <a:xfrm>
              <a:off x="3598560" y="277632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uman touch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28600" y="1648800"/>
            <a:ext cx="8686440" cy="4700520"/>
            <a:chOff x="228600" y="1648800"/>
            <a:chExt cx="8686440" cy="4700520"/>
          </a:xfrm>
        </p:grpSpPr>
        <p:sp>
          <p:nvSpPr>
            <p:cNvPr id="621" name="_s13365"/>
            <p:cNvSpPr/>
            <p:nvPr/>
          </p:nvSpPr>
          <p:spPr>
            <a:xfrm flipV="1">
              <a:off x="3848040" y="1648440"/>
              <a:ext cx="1446840" cy="783720"/>
            </a:xfrm>
            <a:custGeom>
              <a:avLst/>
              <a:gdLst>
                <a:gd name="textAreaLeft" fmla="*/ 519120 w 1446840"/>
                <a:gd name="textAreaRight" fmla="*/ 927720 w 1446840"/>
                <a:gd name="textAreaTop" fmla="*/ 281160 h 783720"/>
                <a:gd name="textAreaBottom" fmla="*/ 50256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ؤ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_s13366"/>
            <p:cNvSpPr/>
            <p:nvPr/>
          </p:nvSpPr>
          <p:spPr>
            <a:xfrm flipV="1">
              <a:off x="3123720" y="2432520"/>
              <a:ext cx="2895480" cy="783360"/>
            </a:xfrm>
            <a:custGeom>
              <a:avLst/>
              <a:gdLst>
                <a:gd name="textAreaLeft" fmla="*/ 636480 w 2895480"/>
                <a:gd name="textAreaRight" fmla="*/ 2259000 w 2895480"/>
                <a:gd name="textAreaTop" fmla="*/ 172080 h 783360"/>
                <a:gd name="textAreaBottom" fmla="*/ 61128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مل الجماع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_s13367"/>
            <p:cNvSpPr/>
            <p:nvPr/>
          </p:nvSpPr>
          <p:spPr>
            <a:xfrm flipV="1">
              <a:off x="2400120" y="3215520"/>
              <a:ext cx="4342680" cy="783720"/>
            </a:xfrm>
            <a:custGeom>
              <a:avLst/>
              <a:gdLst>
                <a:gd name="textAreaLeft" fmla="*/ 753840 w 4342680"/>
                <a:gd name="textAreaRight" fmla="*/ 3588840 w 434268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ـحـدث الايـجــابــــ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13368"/>
            <p:cNvSpPr/>
            <p:nvPr/>
          </p:nvSpPr>
          <p:spPr>
            <a:xfrm flipV="1">
              <a:off x="1675800" y="3999240"/>
              <a:ext cx="5791320" cy="783720"/>
            </a:xfrm>
            <a:custGeom>
              <a:avLst/>
              <a:gdLst>
                <a:gd name="textAreaLeft" fmla="*/ 871200 w 5791320"/>
                <a:gd name="textAreaRight" fmla="*/ 4920120 w 579132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سـتـمــاع الجــــــيـــــــ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_s13369"/>
            <p:cNvSpPr/>
            <p:nvPr/>
          </p:nvSpPr>
          <p:spPr>
            <a:xfrm flipV="1">
              <a:off x="952200" y="4782960"/>
              <a:ext cx="7238520" cy="783720"/>
            </a:xfrm>
            <a:custGeom>
              <a:avLst/>
              <a:gdLst>
                <a:gd name="textAreaLeft" fmla="*/ 988560 w 7238520"/>
                <a:gd name="textAreaRight" fmla="*/ 6249960 w 723852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تـــصــــال الغــيـر مـــبـــــاش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13371"/>
            <p:cNvSpPr/>
            <p:nvPr/>
          </p:nvSpPr>
          <p:spPr>
            <a:xfrm flipV="1">
              <a:off x="228600" y="5567040"/>
              <a:ext cx="8686440" cy="781560"/>
            </a:xfrm>
            <a:custGeom>
              <a:avLst/>
              <a:gdLst>
                <a:gd name="textAreaLeft" fmla="*/ 1105920 w 8686440"/>
                <a:gd name="textAreaRight" fmla="*/ 7580520 w 8686440"/>
                <a:gd name="textAreaTop" fmla="*/ 99360 h 781560"/>
                <a:gd name="textAreaBottom" fmla="*/ 68220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ـــــتــــــــحــــــــفـــــــــيــــــــــــــ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ميزات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ثانياً: مهارات ا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تفاوض: هو فن ينطوي على أعمال التخطيط والرقابة والتحليل التي يستخدمها طرفي التفاوض للوصول الى اتفاق يرضي كلا الطرف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تى تتم عملية التفاوض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عندما يشترك الطرفان في مصلحة واح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رغب الطرفان في التفاوض بحثاً عن وضع أفض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تيقن الطرفان ان دخول المفاوضات حل أفضل من الجمود أو الصرا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228600" y="171360"/>
            <a:ext cx="8686440" cy="6512040"/>
            <a:chOff x="228600" y="171360"/>
            <a:chExt cx="8686440" cy="6512040"/>
          </a:xfrm>
        </p:grpSpPr>
        <p:sp>
          <p:nvSpPr>
            <p:cNvPr id="633" name="_s92183"/>
            <p:cNvSpPr/>
            <p:nvPr/>
          </p:nvSpPr>
          <p:spPr>
            <a:xfrm flipH="1" flipV="1">
              <a:off x="303768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92182"/>
            <p:cNvSpPr/>
            <p:nvPr/>
          </p:nvSpPr>
          <p:spPr>
            <a:xfrm>
              <a:off x="1180440" y="8859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انو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92181"/>
            <p:cNvSpPr/>
            <p:nvPr/>
          </p:nvSpPr>
          <p:spPr>
            <a:xfrm flipH="1">
              <a:off x="240264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_s92180"/>
            <p:cNvSpPr/>
            <p:nvPr/>
          </p:nvSpPr>
          <p:spPr>
            <a:xfrm>
              <a:off x="22860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ثقافة الخص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92179"/>
            <p:cNvSpPr/>
            <p:nvPr/>
          </p:nvSpPr>
          <p:spPr>
            <a:xfrm flipH="1">
              <a:off x="303768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_s92178"/>
            <p:cNvSpPr/>
            <p:nvPr/>
          </p:nvSpPr>
          <p:spPr>
            <a:xfrm>
              <a:off x="1184040" y="434088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خلفية المشترك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للمتفاوضي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92177"/>
            <p:cNvSpPr/>
            <p:nvPr/>
          </p:nvSpPr>
          <p:spPr>
            <a:xfrm>
              <a:off x="4571640" y="4238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_s92176"/>
            <p:cNvSpPr/>
            <p:nvPr/>
          </p:nvSpPr>
          <p:spPr>
            <a:xfrm>
              <a:off x="3488760" y="50551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داف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92175"/>
            <p:cNvSpPr/>
            <p:nvPr/>
          </p:nvSpPr>
          <p:spPr>
            <a:xfrm>
              <a:off x="533700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92174"/>
            <p:cNvSpPr/>
            <p:nvPr/>
          </p:nvSpPr>
          <p:spPr>
            <a:xfrm>
              <a:off x="5790600" y="43387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بيئة المحيط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92173"/>
            <p:cNvSpPr/>
            <p:nvPr/>
          </p:nvSpPr>
          <p:spPr>
            <a:xfrm>
              <a:off x="565452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92172"/>
            <p:cNvSpPr/>
            <p:nvPr/>
          </p:nvSpPr>
          <p:spPr>
            <a:xfrm>
              <a:off x="6743160" y="26121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موازين القو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92171"/>
            <p:cNvSpPr/>
            <p:nvPr/>
          </p:nvSpPr>
          <p:spPr>
            <a:xfrm flipV="1">
              <a:off x="533700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92170"/>
            <p:cNvSpPr/>
            <p:nvPr/>
          </p:nvSpPr>
          <p:spPr>
            <a:xfrm>
              <a:off x="5787720" y="8859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رتيب المتطلب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92169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92168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أجن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_s92167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وامل المؤثر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في التفاو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الأشكال المختلفة ل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9880" y="1066680"/>
            <a:ext cx="5334120" cy="1219320"/>
          </a:xfrm>
          <a:prstGeom prst="leftRightArrow">
            <a:avLst>
              <a:gd name="adj1" fmla="val 50000"/>
              <a:gd name="adj2" fmla="val 87088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86200" y="2819520"/>
            <a:ext cx="5029200" cy="1143000"/>
          </a:xfrm>
          <a:prstGeom prst="leftArrow">
            <a:avLst>
              <a:gd name="adj1" fmla="val 50000"/>
              <a:gd name="adj2" fmla="val 110000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8320" y="4648320"/>
            <a:ext cx="4495680" cy="1143000"/>
          </a:xfrm>
          <a:prstGeom prst="rightArrow">
            <a:avLst>
              <a:gd name="adj1" fmla="val 50000"/>
              <a:gd name="adj2" fmla="val 98331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2057400"/>
            <a:ext cx="3733920" cy="4495680"/>
          </a:xfrm>
          <a:prstGeom prst="irregularSeal1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.أنا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8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لضمان  تفاوض فعال عليك بـــ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تحديد هدف واستراتيجية التفاو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مل بناء على الثق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م بالبحث المتكام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نصت جيداً للطرف الآخ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ثق في كونك طرفاً رابحا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يم جيداً الاختيارات المتاح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رف الأجندة الخفية للخص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0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cc"/>
                </a:solidFill>
                <a:latin typeface="Arial"/>
              </a:rPr>
              <a:t>شــكـــــراً لـــكـــــــم.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وبكم نحن........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ffff"/>
                </a:solidFill>
                <a:latin typeface="Arial"/>
              </a:rPr>
              <a:t>أفـضـــل مـــــن الأفــضــــــــل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6000" spc="-1" strike="noStrike">
                <a:solidFill>
                  <a:srgbClr val="ffffcc"/>
                </a:solidFill>
                <a:latin typeface="Arial"/>
                <a:cs typeface="Andalus"/>
              </a:rPr>
              <a:t>مهارات القيادة وأسس التفاوض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ولاً: مهارات القيادة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هي عملية تحريك مجموعة من الناس بإتجاه محدد ومخطط وذلك بتحفيزهم على العمل بإختياره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قيادة الناجحة:  هي التي تهدف إلى تحريك الناس في الإتجاه الذي يحقق مصالحهم على المدى البعيد وهي أيضاً بهدف التأثير في الآخر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389880" y="169560"/>
            <a:ext cx="8363160" cy="5978160"/>
            <a:chOff x="389880" y="169560"/>
            <a:chExt cx="8363160" cy="5978160"/>
          </a:xfrm>
        </p:grpSpPr>
        <p:sp>
          <p:nvSpPr>
            <p:cNvPr id="520" name="_s6161"/>
            <p:cNvSpPr/>
            <p:nvPr/>
          </p:nvSpPr>
          <p:spPr>
            <a:xfrm flipH="1" flipV="1">
              <a:off x="2510640" y="2894040"/>
              <a:ext cx="1028520" cy="24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6160"/>
            <p:cNvSpPr/>
            <p:nvPr/>
          </p:nvSpPr>
          <p:spPr>
            <a:xfrm>
              <a:off x="38988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ثق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_s6159"/>
            <p:cNvSpPr/>
            <p:nvPr/>
          </p:nvSpPr>
          <p:spPr>
            <a:xfrm flipH="1">
              <a:off x="3298320" y="4040280"/>
              <a:ext cx="6346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6158"/>
            <p:cNvSpPr/>
            <p:nvPr/>
          </p:nvSpPr>
          <p:spPr>
            <a:xfrm>
              <a:off x="157140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حديد الأولوي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6157"/>
            <p:cNvSpPr/>
            <p:nvPr/>
          </p:nvSpPr>
          <p:spPr>
            <a:xfrm>
              <a:off x="5209560" y="4040280"/>
              <a:ext cx="6382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6156"/>
            <p:cNvSpPr/>
            <p:nvPr/>
          </p:nvSpPr>
          <p:spPr>
            <a:xfrm>
              <a:off x="540036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نمية عوامل القو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6155"/>
            <p:cNvSpPr/>
            <p:nvPr/>
          </p:nvSpPr>
          <p:spPr>
            <a:xfrm flipV="1">
              <a:off x="5603400" y="2891160"/>
              <a:ext cx="1031400" cy="24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6154"/>
            <p:cNvSpPr/>
            <p:nvPr/>
          </p:nvSpPr>
          <p:spPr>
            <a:xfrm>
              <a:off x="658116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ركيز على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نجاز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6153"/>
            <p:cNvSpPr/>
            <p:nvPr/>
          </p:nvSpPr>
          <p:spPr>
            <a:xfrm flipV="1">
              <a:off x="4571640" y="1780200"/>
              <a:ext cx="0" cy="80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6152"/>
            <p:cNvSpPr/>
            <p:nvPr/>
          </p:nvSpPr>
          <p:spPr>
            <a:xfrm>
              <a:off x="3485880" y="1695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حكم في الوق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6151"/>
            <p:cNvSpPr/>
            <p:nvPr/>
          </p:nvSpPr>
          <p:spPr>
            <a:xfrm>
              <a:off x="3485880" y="25851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عناصر في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 تجاه الأفرا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279000" y="171360"/>
            <a:ext cx="8587800" cy="6364800"/>
            <a:chOff x="279000" y="171360"/>
            <a:chExt cx="8587800" cy="6364800"/>
          </a:xfrm>
        </p:grpSpPr>
        <p:sp>
          <p:nvSpPr>
            <p:cNvPr id="532" name="_s7211"/>
            <p:cNvSpPr/>
            <p:nvPr/>
          </p:nvSpPr>
          <p:spPr>
            <a:xfrm flipH="1" flipV="1">
              <a:off x="3037680" y="2059920"/>
              <a:ext cx="907560" cy="80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7210"/>
            <p:cNvSpPr/>
            <p:nvPr/>
          </p:nvSpPr>
          <p:spPr>
            <a:xfrm>
              <a:off x="142812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درات الادار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7209"/>
            <p:cNvSpPr/>
            <p:nvPr/>
          </p:nvSpPr>
          <p:spPr>
            <a:xfrm flipH="1" flipV="1">
              <a:off x="2224800" y="3119040"/>
              <a:ext cx="139068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_s7208"/>
            <p:cNvSpPr/>
            <p:nvPr/>
          </p:nvSpPr>
          <p:spPr>
            <a:xfrm>
              <a:off x="279000" y="2257560"/>
              <a:ext cx="1958760" cy="146844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مهارات الاتصال 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التخاط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7207"/>
            <p:cNvSpPr/>
            <p:nvPr/>
          </p:nvSpPr>
          <p:spPr>
            <a:xfrm flipH="1">
              <a:off x="2510640" y="379332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7206"/>
            <p:cNvSpPr/>
            <p:nvPr/>
          </p:nvSpPr>
          <p:spPr>
            <a:xfrm>
              <a:off x="682200" y="395748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ضح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7205"/>
            <p:cNvSpPr/>
            <p:nvPr/>
          </p:nvSpPr>
          <p:spPr>
            <a:xfrm flipH="1">
              <a:off x="3762000" y="4112280"/>
              <a:ext cx="482040" cy="99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7204"/>
            <p:cNvSpPr/>
            <p:nvPr/>
          </p:nvSpPr>
          <p:spPr>
            <a:xfrm>
              <a:off x="2447640" y="50670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حز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7203"/>
            <p:cNvSpPr/>
            <p:nvPr/>
          </p:nvSpPr>
          <p:spPr>
            <a:xfrm>
              <a:off x="4907880" y="4109760"/>
              <a:ext cx="482760" cy="99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7202"/>
            <p:cNvSpPr/>
            <p:nvPr/>
          </p:nvSpPr>
          <p:spPr>
            <a:xfrm>
              <a:off x="4749480" y="50648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طاقة والنشا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7201"/>
            <p:cNvSpPr/>
            <p:nvPr/>
          </p:nvSpPr>
          <p:spPr>
            <a:xfrm>
              <a:off x="5416200" y="378828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7200"/>
            <p:cNvSpPr/>
            <p:nvPr/>
          </p:nvSpPr>
          <p:spPr>
            <a:xfrm>
              <a:off x="6511320" y="39524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ضج والآراء الجي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7199"/>
            <p:cNvSpPr/>
            <p:nvPr/>
          </p:nvSpPr>
          <p:spPr>
            <a:xfrm flipV="1">
              <a:off x="5530680" y="3114000"/>
              <a:ext cx="138996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7198"/>
            <p:cNvSpPr/>
            <p:nvPr/>
          </p:nvSpPr>
          <p:spPr>
            <a:xfrm>
              <a:off x="6908760" y="2252520"/>
              <a:ext cx="195804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خلا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_s7197"/>
            <p:cNvSpPr/>
            <p:nvPr/>
          </p:nvSpPr>
          <p:spPr>
            <a:xfrm flipV="1">
              <a:off x="5197320" y="2054520"/>
              <a:ext cx="907560" cy="81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_s7196"/>
            <p:cNvSpPr/>
            <p:nvPr/>
          </p:nvSpPr>
          <p:spPr>
            <a:xfrm>
              <a:off x="575604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خصية القو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7195"/>
            <p:cNvSpPr/>
            <p:nvPr/>
          </p:nvSpPr>
          <p:spPr>
            <a:xfrm flipV="1">
              <a:off x="4571640" y="1638000"/>
              <a:ext cx="0" cy="105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_s7194"/>
            <p:cNvSpPr/>
            <p:nvPr/>
          </p:nvSpPr>
          <p:spPr>
            <a:xfrm>
              <a:off x="3593880" y="17136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عور بأهم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سال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7193"/>
            <p:cNvSpPr/>
            <p:nvPr/>
          </p:nvSpPr>
          <p:spPr>
            <a:xfrm>
              <a:off x="3593880" y="269532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صفات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اج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50920" y="763560"/>
            <a:ext cx="8353440" cy="2806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5940360" y="620640"/>
            <a:ext cx="0" cy="208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1627200"/>
            <a:ext cx="0" cy="208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940360" y="3067200"/>
            <a:ext cx="0" cy="64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87640" y="619200"/>
            <a:ext cx="0" cy="64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4360" y="260280"/>
            <a:ext cx="3024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79280" y="260280"/>
            <a:ext cx="295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01200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9888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7196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98000" y="549360"/>
            <a:ext cx="79236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71800" y="549360"/>
            <a:ext cx="79200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71280"/>
            <a:ext cx="252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9999"/>
                </a:solidFill>
                <a:latin typeface="Verdana"/>
                <a:cs typeface="AdvertisingBold"/>
              </a:rPr>
              <a:t>أنماط القيادة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dvertising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تسل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784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ديمقرا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772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حــــــ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4400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164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940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0002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764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83528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4607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74072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ويعلن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88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قن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ب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64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م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قترح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كون مستعد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تغير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56000" y="4292640"/>
            <a:ext cx="93636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لق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قتراحات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خذ 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03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فو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في اتخ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يفو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سلط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تخا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5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نماط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ديموقراط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43828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ستمع لآراء المرؤوس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تسود فيه روح الفريق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41911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و احد م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56544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غير موجه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23623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يست هناك رقابة لصيق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320040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بعيد ع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11240" y="2209680"/>
            <a:ext cx="4537080" cy="4027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895480" y="167652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ترك الحبل على الغارب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6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76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26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ديكتاتوري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986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132000" y="15238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ا يسمح بالمشار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132000" y="24382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رارات فردية و فوقي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13200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رقابة لصيقة جداً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9-04-19T12:31:1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